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871C-EBC0-41DA-AF73-1E8BD4002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mun.ca/biology/scarr/Arginine_nutritional_mutant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flickr.com/photos/agathman/5469134899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dnaftb.org/13/bio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gfmer.ch/genetic_diseases_v2/gendis_detail_list.php?cat3=18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nature.com/scitable/topicpage/cell-metabolism-1402618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a book called Inborn Errors of Metaboism in 19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luded alkaptonuria, cystinuria, pentosuria, albi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iki.cstl.semo.edu/agathman/Proteins%20and%20genes.ashx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ffected Infants who were fed phenylalanine had increased blackness in urine.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andwalk.blogspot.com/2008/05/nobel-laureates-george-beadle-and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publications.nigms.nih.gov/thenewgenetics/livinglab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al nutrient medium contained inorganic salts, sugar, one of the B vita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F642-3BA8-4CB1-A5B6-3B21FDED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28C3-5FA7-4A5F-8360-A237495A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6C9A-CD3A-4024-B484-4416285F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7CE-EF70-4F0B-A749-34E9FF19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B084-AD18-4CEF-9766-0217FCB8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5E6D-94FF-4A0C-9DF7-5CB1C396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69DF-5E5F-4C7A-AFB7-5E5BBFC8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6267-2024-42A5-A43F-B65E5647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CF09-E18B-40A0-8082-835FDF4C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C0E7-55DB-4074-9D9D-1DC7B1B0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079A-65E2-4499-B819-02A43762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21E6-75E9-4876-942E-1095552F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32E7-B369-464C-905D-8E432D23A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dnaftb.org/16/animation.html" TargetMode="External"/><Relationship Id="rId2" Type="http://schemas.openxmlformats.org/officeDocument/2006/relationships/hyperlink" Target="http://wps.prenhall.com/wps/media/objects/1552/1589869/web_tut/21_04/21_04_01a.swf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738360"/>
            <a:ext cx="77724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inine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13040" y="1981080"/>
            <a:ext cx="531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Gene-One Enzy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dle &amp; Tatum’s work resulted in the on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-one enzyme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ccurately known a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gene-one polypept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dle &amp; Tatum experiments (excellent slideshow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16/animatio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dle &amp; Tatum (narrated animation…a bit d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ps.prenhall.com/wps/media/objects/1552/1589869/web_tut/21_04/21_04_01a.sw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bald Garrod (1857-196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phys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metabolic defects in newbo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d family history of certain ill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22880" y="1981080"/>
            <a:ext cx="266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kaptonu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urine to turn 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mulation of alkapton in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2624040"/>
            <a:ext cx="38098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rod’s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ptonuria caused by problem with enzyme that breaks down alka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born error of metabolism” (192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4192560"/>
            <a:ext cx="77724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enylalanine Me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00160" y="1981080"/>
            <a:ext cx="514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 (194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genetic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d red bread mould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urospora cras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2365200"/>
            <a:ext cx="380988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eurospora cras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673360" y="1981080"/>
            <a:ext cx="379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. crass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ble to grow on minimal nutrient med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”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. cras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re created through exposure to X-rays or UV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 strains were unable to grow on minimal nutrient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 mutant strains, addi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gin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minimal nutrient medium resulted in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pathway for synthesis of arginine was determined through exper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 strain tested with intermedi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2:10:59Z</dcterms:created>
  <dc:creator>rubina khan</dc:creator>
  <dc:description/>
  <dc:language>en-US</dc:language>
  <cp:lastModifiedBy>rubina khan</cp:lastModifiedBy>
  <dcterms:modified xsi:type="dcterms:W3CDTF">2013-04-22T04:29:22Z</dcterms:modified>
  <cp:revision>105</cp:revision>
  <dc:subject/>
  <dc:title>Molecular Genetics</dc:title>
</cp:coreProperties>
</file>